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3E86-642A-47A8-BE43-01C62657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www.123rf.com/photo_16720792_abstract-word-cloud-for-central-nervous-system-with-related-tags-and-ter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inges = 3 layers of connective tissue that surround &amp; protect the brain &amp; spinal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online.us/Online%20A&amp;P/AP%202/Northland/AP2lab/Lab%201%20online/lab%202/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bblews.com/news/214529-myths-about-the-brain-the-human-brain-is-the-biggest-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rainexplorer.org/glossary/hindbrai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urosurgerypa.com/anatomy/neuro_br_cerebru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49/brain-lob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A3C-07F7-4F4C-96BA-C5E4A0C6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604-3279-45DB-B24B-B3FA6EDB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77B-8033-4F54-AA55-456BC106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D0E-FD2A-4213-93B3-7049FF89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D61-9426-49F7-9C61-36368749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DF1-DEBC-48B5-9F46-AF2AB94C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5B7-283B-4203-A4A6-9CB50F9F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FA6-1F7C-4D0B-BF72-F83B1608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F9C-8786-45B1-8633-A947A756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58F-1CF5-41EE-8733-F432405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891-9EFA-429E-84A0-AF1A3ED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F17-A41E-467E-824A-AAF26144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3F23-81A0-4ABB-9A23-9106FB754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629400" y="56383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&amp; spinal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ed &amp; prot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i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rospinal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s the control centre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s impulses between the brain and the P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terneuron circuits of refl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xons)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ell bodies &amp; dendri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2741760"/>
            <a:ext cx="44956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57320" y="1981080"/>
            <a:ext cx="522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long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nnects spinal cord to cerebell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ebell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volved in muscle movement &amp; bal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nnects cerebellum to higher cent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730520"/>
            <a:ext cx="426708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eb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st developed part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ost sensory &amp; mot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724040"/>
            <a:ext cx="43434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54160" y="1828800"/>
            <a:ext cx="6757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03:10:35Z</dcterms:created>
  <dc:creator>rubina khan</dc:creator>
  <dc:description/>
  <dc:language>en-US</dc:language>
  <cp:lastModifiedBy>rubina khan</cp:lastModifiedBy>
  <dcterms:modified xsi:type="dcterms:W3CDTF">2013-05-29T03:39:23Z</dcterms:modified>
  <cp:revision>32</cp:revision>
  <dc:subject/>
  <dc:title>The Central Nervous System</dc:title>
</cp:coreProperties>
</file>